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9075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C5B0-A57C-4D47-997D-9DA2D4BC6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D768-37F3-4763-B28E-F3E6E42D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63C5-FB79-4462-8AFB-109CE58A6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4313-DC69-41D8-8507-5CCFB31BC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143F-2C93-4FA7-A4AA-9F009E06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E664-0C2D-4B03-A5DE-2B0EE79C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7CAB-EE3C-4212-8DDB-8BF3C57F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2B37-0609-434D-8DEF-0A595BA2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EAC3-C8F3-456B-A82A-501A881A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F25B-5E59-41A6-A00C-E4946DBA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C769-4056-4777-AE38-91201A0B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117F-218F-4906-AC83-8269231D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K Thiever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DK Thieve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K Thieve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DK Thiever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K Thieve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DK Thieve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K Thieve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DK Thiever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K Thieve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DK Thiever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K Thieve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DK Thiever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K Thieve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DK Thiever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K Thieve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0F49-1CEF-404C-AAB2-26473975CCA4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file:///../&#201;RASE%20QUE%20SE%20ERA.ppsx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6800" y="1095120"/>
            <a:ext cx="500076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400" spc="-1" strike="noStrike">
                <a:solidFill>
                  <a:srgbClr val="000000"/>
                </a:solidFill>
                <a:latin typeface="DK Thievery"/>
              </a:rPr>
              <a:t>O RELATO POPULAR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71680" y="4524480"/>
            <a:ext cx="55720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9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gl-ES" sz="1900" spc="-1" strike="noStrike">
                <a:solidFill>
                  <a:srgbClr val="000000"/>
                </a:solidFill>
                <a:latin typeface="DK Thievery"/>
              </a:rPr>
              <a:t>Transmítese oralmente e vai medrando co paso do tempo, manténdose na súa estrutura, pero admitindo variacións. De autoría colectiva, nunca se pode dar por absolutamente fixado. É frecuente que se rexistre por escrito moito despois de nacer  e mesmo que existan varias tradicións distintas do mesmo relato. Ás veces estes contos poden ter derivacións que se mesturan e interactúan entre si dando lugar a “materias” literarias como a “materia artúrica” podendo tamén entrar na literatura de autor a través das revisións que delas se fan ao longo da historia.  </a:t>
            </a:r>
            <a:endParaRPr b="0" lang="en-US" sz="1900" spc="-1" strike="noStrike">
              <a:solidFill>
                <a:srgbClr val="000000"/>
              </a:solidFill>
              <a:latin typeface="DK Thievery"/>
            </a:endParaRPr>
          </a:p>
          <a:p>
            <a:pPr marL="3085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9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gl-ES" sz="1900" spc="-1" strike="noStrike">
                <a:solidFill>
                  <a:srgbClr val="000000"/>
                </a:solidFill>
                <a:latin typeface="DK Thievery"/>
              </a:rPr>
              <a:t>As lendas e os mitos teñen estas mesmas características aínda que se constituísen en xéneros independentes. A diferenza do relato ou conto popular, estes ofrécense como relatos verídicos e o relato popular, en troca, preséntase como ficción e non ten maiores pretensións. </a:t>
            </a:r>
            <a:endParaRPr b="0" lang="en-US" sz="1900" spc="-1" strike="noStrike">
              <a:solidFill>
                <a:srgbClr val="000000"/>
              </a:solidFill>
              <a:latin typeface="DK Thievery"/>
            </a:endParaRPr>
          </a:p>
        </p:txBody>
      </p:sp>
      <p:pic>
        <p:nvPicPr>
          <p:cNvPr id="43" name="Picture 16" descr="ANd9GcRcFXLowVGec8x1PgoYFkFBT8zBluZEZoW4WNsUaIzwAto5S759KQ"/>
          <p:cNvPicPr/>
          <p:nvPr/>
        </p:nvPicPr>
        <p:blipFill>
          <a:blip r:embed="rId1"/>
          <a:stretch/>
        </p:blipFill>
        <p:spPr>
          <a:xfrm>
            <a:off x="2500200" y="2452680"/>
            <a:ext cx="1743120" cy="1857240"/>
          </a:xfrm>
          <a:prstGeom prst="rect">
            <a:avLst/>
          </a:prstGeom>
          <a:ln w="0">
            <a:noFill/>
          </a:ln>
        </p:spPr>
      </p:pic>
      <p:sp>
        <p:nvSpPr>
          <p:cNvPr id="44" name="6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0AD7-CCE7-4A6C-A51B-1A4374BEDDA3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434880" y="809640"/>
            <a:ext cx="751032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400" spc="-1" strike="noStrike">
                <a:solidFill>
                  <a:srgbClr val="000000"/>
                </a:solidFill>
                <a:latin typeface="DK Thievery"/>
              </a:rPr>
              <a:t>Un conto galego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4280" y="4524120"/>
            <a:ext cx="4857840" cy="31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  <a:ea typeface="Arial"/>
              </a:rPr>
              <a:t>Chegou un día un ao ceo e cando</a:t>
            </a:r>
            <a:endParaRPr b="0" lang="en-US" sz="2000" spc="-1" strike="noStrike">
              <a:solidFill>
                <a:srgbClr val="000000"/>
              </a:solidFill>
              <a:latin typeface="DK Thievery"/>
            </a:endParaRPr>
          </a:p>
          <a:p>
            <a:pPr marL="263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  <a:ea typeface="Arial"/>
              </a:rPr>
              <a:t>topou con San Pedro, o santo </a:t>
            </a:r>
            <a:endParaRPr b="0" lang="en-US" sz="2000" spc="-1" strike="noStrike">
              <a:solidFill>
                <a:srgbClr val="000000"/>
              </a:solidFill>
              <a:latin typeface="DK Thievery"/>
            </a:endParaRPr>
          </a:p>
          <a:p>
            <a:pPr marL="263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  <a:ea typeface="Arial"/>
              </a:rPr>
              <a:t>díxolle:</a:t>
            </a:r>
            <a:endParaRPr b="0" lang="en-US" sz="2000" spc="-1" strike="noStrike">
              <a:solidFill>
                <a:srgbClr val="000000"/>
              </a:solidFill>
              <a:latin typeface="DK Thievery"/>
            </a:endParaRPr>
          </a:p>
          <a:p>
            <a:pPr marL="263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  <a:ea typeface="Arial"/>
              </a:rPr>
              <a:t>- Non, ti non podes pasar que non fixeches ningunha boa obra.</a:t>
            </a:r>
            <a:endParaRPr b="0" lang="en-US" sz="2000" spc="-1" strike="noStrike">
              <a:solidFill>
                <a:srgbClr val="000000"/>
              </a:solidFill>
              <a:latin typeface="DK Thievery"/>
            </a:endParaRPr>
          </a:p>
          <a:p>
            <a:pPr marL="263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  <a:ea typeface="Arial"/>
              </a:rPr>
              <a:t>- Como que non! Deille tres perras chicas unha vez a un pobre.</a:t>
            </a:r>
            <a:endParaRPr b="0" lang="en-US" sz="2000" spc="-1" strike="noStrike">
              <a:solidFill>
                <a:srgbClr val="000000"/>
              </a:solidFill>
              <a:latin typeface="DK Thievery"/>
            </a:endParaRPr>
          </a:p>
          <a:p>
            <a:pPr marL="263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  <a:ea typeface="Arial"/>
              </a:rPr>
              <a:t>E San Pedro foi falar con Noso Señor a</a:t>
            </a:r>
            <a:endParaRPr b="0" lang="en-US" sz="2000" spc="-1" strike="noStrike">
              <a:solidFill>
                <a:srgbClr val="000000"/>
              </a:solidFill>
              <a:latin typeface="DK Thievery"/>
            </a:endParaRPr>
          </a:p>
          <a:p>
            <a:pPr marL="263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  <a:ea typeface="Arial"/>
              </a:rPr>
              <a:t>ver se o deixaba pasar.</a:t>
            </a:r>
            <a:endParaRPr b="0" lang="en-US" sz="2000" spc="-1" strike="noStrike">
              <a:solidFill>
                <a:srgbClr val="000000"/>
              </a:solidFill>
              <a:latin typeface="DK Thievery"/>
            </a:endParaRPr>
          </a:p>
          <a:p>
            <a:pPr marL="263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  <a:ea typeface="Arial"/>
              </a:rPr>
              <a:t>- E que fixo bo?</a:t>
            </a:r>
            <a:endParaRPr b="0" lang="en-US" sz="2000" spc="-1" strike="noStrike">
              <a:solidFill>
                <a:srgbClr val="000000"/>
              </a:solidFill>
              <a:latin typeface="DK Thievery"/>
            </a:endParaRPr>
          </a:p>
          <a:p>
            <a:pPr marL="263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  <a:ea typeface="Arial"/>
              </a:rPr>
              <a:t>- Deulle tres perras chicas a un pobre.</a:t>
            </a:r>
            <a:endParaRPr b="0" lang="en-US" sz="2000" spc="-1" strike="noStrike">
              <a:solidFill>
                <a:srgbClr val="000000"/>
              </a:solidFill>
              <a:latin typeface="DK Thievery"/>
            </a:endParaRPr>
          </a:p>
          <a:p>
            <a:pPr marL="263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  <a:ea typeface="Arial"/>
              </a:rPr>
              <a:t>- Máis nada? Pois logo devólvelle as tres perras chicas e que marche pra o inferno con elas. </a:t>
            </a:r>
            <a:endParaRPr b="0" lang="en-US" sz="2000" spc="-1" strike="noStrike">
              <a:solidFill>
                <a:srgbClr val="000000"/>
              </a:solidFill>
              <a:latin typeface="DK Thievery"/>
            </a:endParaRPr>
          </a:p>
        </p:txBody>
      </p:sp>
      <p:pic>
        <p:nvPicPr>
          <p:cNvPr id="81" name="Picture 8" descr="ceus-celestiais-thumb12684944"/>
          <p:cNvPicPr/>
          <p:nvPr/>
        </p:nvPicPr>
        <p:blipFill>
          <a:blip r:embed="rId1"/>
          <a:srcRect l="26454" t="18900" r="0" b="5463"/>
          <a:stretch/>
        </p:blipFill>
        <p:spPr>
          <a:xfrm>
            <a:off x="2011320" y="2117880"/>
            <a:ext cx="2556000" cy="2263680"/>
          </a:xfrm>
          <a:prstGeom prst="rect">
            <a:avLst/>
          </a:prstGeom>
          <a:ln w="0">
            <a:noFill/>
          </a:ln>
        </p:spPr>
      </p:pic>
      <p:sp>
        <p:nvSpPr>
          <p:cNvPr id="82" name="5 Marcador de número de diapositiva"/>
          <p:cNvSpPr/>
          <p:nvPr/>
        </p:nvSpPr>
        <p:spPr>
          <a:xfrm>
            <a:off x="4481640" y="9020160"/>
            <a:ext cx="19476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9A2F-8118-4E95-B9D7-1838D245DC2D}" type="slidenum">
              <a:rPr b="1" lang="gl-ES" sz="1400" spc="-1" strike="noStrike">
                <a:solidFill>
                  <a:srgbClr val="6b6bc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2720" y="861480"/>
            <a:ext cx="6172200" cy="16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DK Thievery"/>
              </a:rPr>
              <a:t>A materia de Bretaña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pic>
        <p:nvPicPr>
          <p:cNvPr id="84" name="4 Marcador de contenido" descr="Lancelot.jpg"/>
          <p:cNvPicPr/>
          <p:nvPr/>
        </p:nvPicPr>
        <p:blipFill>
          <a:blip r:embed="rId1"/>
          <a:stretch/>
        </p:blipFill>
        <p:spPr>
          <a:xfrm>
            <a:off x="2643120" y="2062080"/>
            <a:ext cx="1576440" cy="21765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13880" y="4485960"/>
            <a:ext cx="5357880" cy="31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Aquel dia que vos eu digo, direitamente quando queriam poer as mesas –esto era ora de noa– aveeo que üa donzela chegou i, mui fremosa e mui bem vestida. E entrou no paaço a pee, como mandadeira. Ela começou a catar de üa parte e da outra, pelo paaço; e perguntavam-na que demandava.</a:t>
            </a:r>
            <a:endParaRPr b="0" lang="en-US" sz="1400" spc="-1" strike="noStrike">
              <a:solidFill>
                <a:srgbClr val="000000"/>
              </a:solidFill>
              <a:latin typeface="DK Thievery"/>
            </a:endParaRPr>
          </a:p>
          <a:p>
            <a:pPr marL="27756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Eu demando –disse ela– por Dom Lançarot do Lago. É aqui?</a:t>
            </a:r>
            <a:endParaRPr b="0" lang="en-US" sz="1400" spc="-1" strike="noStrike">
              <a:solidFill>
                <a:srgbClr val="000000"/>
              </a:solidFill>
              <a:latin typeface="DK Thievery"/>
            </a:endParaRPr>
          </a:p>
          <a:p>
            <a:pPr marL="27756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Si, donzela –isse üu cavaleiro. Veede-lo: stá aaquela freesta, falando com Dom Gualvam.</a:t>
            </a:r>
            <a:endParaRPr b="0" lang="en-US" sz="1400" spc="-1" strike="noStrike">
              <a:solidFill>
                <a:srgbClr val="000000"/>
              </a:solidFill>
              <a:latin typeface="DK Thievery"/>
            </a:endParaRPr>
          </a:p>
          <a:p>
            <a:pPr marL="27756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Ela foi logo pera el e salvô-o. Ele, tanto que a vio, recebeo-a mui bem e abraçou-a, ca aquela era üa das donzelas que moravam na Insoa da Lediça, que a filha Amida del-rei Peles amava mais que donzela da sua companha.</a:t>
            </a:r>
            <a:endParaRPr b="0" lang="en-US" sz="1400" spc="-1" strike="noStrike">
              <a:solidFill>
                <a:srgbClr val="000000"/>
              </a:solidFill>
              <a:latin typeface="DK Thievery"/>
            </a:endParaRPr>
          </a:p>
          <a:p>
            <a:pPr marL="27756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Ai, donzela! – isse Lançalot– que ventura vos adusse aqui, que bem sei que sem razom nom veestes vós?</a:t>
            </a:r>
            <a:endParaRPr b="0" lang="en-US" sz="1400" spc="-1" strike="noStrike">
              <a:solidFill>
                <a:srgbClr val="000000"/>
              </a:solidFill>
              <a:latin typeface="DK Thievery"/>
            </a:endParaRPr>
          </a:p>
          <a:p>
            <a:pPr marL="27756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Senhor, verdade é; mais rogo-vos, se vos aprouguer, que vaades comigo aaquela foresta de Camaalot; e sabede que manhãa, ora de comer, seeredes aqui.</a:t>
            </a:r>
            <a:endParaRPr b="0" lang="en-US" sz="1400" spc="-1" strike="noStrike">
              <a:solidFill>
                <a:srgbClr val="000000"/>
              </a:solidFill>
              <a:latin typeface="DK Thievery"/>
            </a:endParaRPr>
          </a:p>
          <a:p>
            <a:pPr marL="27756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86" name="4 Marcador de número de diapositiva"/>
          <p:cNvSpPr/>
          <p:nvPr/>
        </p:nvSpPr>
        <p:spPr>
          <a:xfrm>
            <a:off x="4915080" y="9015480"/>
            <a:ext cx="16002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2DF2-CA29-4633-ADA4-8D7F86639AAD}" type="slidenum">
              <a:rPr b="1" lang="gl-ES" sz="1400" spc="-1" strike="noStrike">
                <a:solidFill>
                  <a:srgbClr val="6b6bc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5 Rectángulo">
            <a:hlinkClick r:id="rId2"/>
          </p:cNvPr>
          <p:cNvSpPr/>
          <p:nvPr/>
        </p:nvSpPr>
        <p:spPr>
          <a:xfrm>
            <a:off x="3143160" y="8453520"/>
            <a:ext cx="714600" cy="642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71760" y="1009440"/>
            <a:ext cx="357192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000" spc="-1" strike="noStrike">
                <a:solidFill>
                  <a:srgbClr val="000000"/>
                </a:solidFill>
                <a:latin typeface="DK Thievery"/>
              </a:rPr>
              <a:t>A carencia</a:t>
            </a:r>
            <a:endParaRPr b="0" lang="en-US" sz="40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71360" y="4809960"/>
            <a:ext cx="450036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O conto comeza cunha “carencia”. Se todo funciona ben, non hai conto. A carencia é calquera acontecemento que rompe o equilibrio preexistente á historia: unha herdanza, un abandono, un exilio, unha ameaza, unha traizón ou unha prohibición, que desencadenará a toma de decisións por parte do heroe.</a:t>
            </a:r>
            <a:endParaRPr b="0" lang="en-US" sz="2400" spc="-1" strike="noStrike">
              <a:solidFill>
                <a:srgbClr val="000000"/>
              </a:solidFill>
              <a:latin typeface="DK Thievery"/>
            </a:endParaRPr>
          </a:p>
        </p:txBody>
      </p:sp>
      <p:pic>
        <p:nvPicPr>
          <p:cNvPr id="47" name="Picture 15" descr="Imaginaria » Cuentos populares rusos: “La pluma del halcón” | Literatura infantil y juvenil | Scoop.it"/>
          <p:cNvPicPr/>
          <p:nvPr/>
        </p:nvPicPr>
        <p:blipFill>
          <a:blip r:embed="rId1"/>
          <a:srcRect l="3737" t="13422" r="7749" b="19771"/>
          <a:stretch/>
        </p:blipFill>
        <p:spPr>
          <a:xfrm>
            <a:off x="2322360" y="2154240"/>
            <a:ext cx="2106720" cy="2298600"/>
          </a:xfrm>
          <a:prstGeom prst="rect">
            <a:avLst/>
          </a:prstGeom>
          <a:ln w="0">
            <a:noFill/>
          </a:ln>
        </p:spPr>
      </p:pic>
      <p:sp>
        <p:nvSpPr>
          <p:cNvPr id="48" name="5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CA2B-FA69-4E0D-B973-DE917380D97E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5480" y="1523880"/>
            <a:ext cx="621828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400" spc="-1" strike="noStrike">
                <a:solidFill>
                  <a:srgbClr val="000000"/>
                </a:solidFill>
                <a:latin typeface="DK Thievery"/>
              </a:rPr>
              <a:t>O antagonista</a:t>
            </a:r>
            <a:br>
              <a:rPr sz="4400"/>
            </a:br>
            <a:r>
              <a:rPr b="1" lang="gl-ES" sz="4400" spc="-1" strike="noStrike">
                <a:solidFill>
                  <a:srgbClr val="000000"/>
                </a:solidFill>
                <a:latin typeface="DK Thievery"/>
              </a:rPr>
              <a:t>e o engano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5524200"/>
            <a:ext cx="457200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O antagonista é aquel personaxe que no conto só procura o dano do heroe. Engánao e consegue facer del unha vítima; o heroe, inicialmente, debe ceder ante o agresor, cumprir un desafío ou un castigo, marchar ou enfrontarse a un cruel destino. </a:t>
            </a:r>
            <a:endParaRPr b="0" lang="en-US" sz="2400" spc="-1" strike="noStrike">
              <a:solidFill>
                <a:srgbClr val="000000"/>
              </a:solidFill>
              <a:latin typeface="DK Thievery"/>
            </a:endParaRPr>
          </a:p>
        </p:txBody>
      </p:sp>
      <p:pic>
        <p:nvPicPr>
          <p:cNvPr id="51" name="Picture 12" descr="844733d9025914a04ebf6d5e0a14ab47_article"/>
          <p:cNvPicPr/>
          <p:nvPr/>
        </p:nvPicPr>
        <p:blipFill>
          <a:blip r:embed="rId1"/>
          <a:stretch/>
        </p:blipFill>
        <p:spPr>
          <a:xfrm>
            <a:off x="907920" y="2895480"/>
            <a:ext cx="5021280" cy="2271960"/>
          </a:xfrm>
          <a:prstGeom prst="rect">
            <a:avLst/>
          </a:prstGeom>
          <a:ln w="0">
            <a:noFill/>
          </a:ln>
        </p:spPr>
      </p:pic>
      <p:sp>
        <p:nvSpPr>
          <p:cNvPr id="52" name="5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7147-FAAE-46B5-9059-4F88F9E51C20}" type="slidenum">
              <a:rPr b="1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5480" y="1738440"/>
            <a:ext cx="617220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400" spc="-1" strike="noStrike">
                <a:solidFill>
                  <a:srgbClr val="000000"/>
                </a:solidFill>
                <a:latin typeface="DK Thievery"/>
              </a:rPr>
              <a:t>A proba, o regalo,</a:t>
            </a:r>
            <a:br>
              <a:rPr sz="4400"/>
            </a:br>
            <a:r>
              <a:rPr b="1" lang="gl-ES" sz="4400" spc="-1" strike="noStrike">
                <a:solidFill>
                  <a:srgbClr val="000000"/>
                </a:solidFill>
                <a:latin typeface="DK Thievery"/>
              </a:rPr>
              <a:t>a viaxe, a loita...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7160" y="5310000"/>
            <a:ext cx="5143680" cy="31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Trala primeira derrota, o heroe debe superar unha proba, realizar unha viaxe -case sempre en procura de algo- ou enfrontarse a un inimigo moi poderoso e superior en forzas a el... Malia todo, o heroe conta cunha axuda, un consello ou un obxecto marabilloso que lle axudarán na súa empresa, o regalo. </a:t>
            </a:r>
            <a:endParaRPr b="0" lang="en-US" sz="2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117360" y="66600"/>
            <a:ext cx="22860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0"/>
          <p:cNvSpPr/>
          <p:nvPr/>
        </p:nvSpPr>
        <p:spPr>
          <a:xfrm>
            <a:off x="117360" y="66600"/>
            <a:ext cx="22860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2" descr="cuentos-infantiles-header"/>
          <p:cNvPicPr/>
          <p:nvPr/>
        </p:nvPicPr>
        <p:blipFill>
          <a:blip r:embed="rId1"/>
          <a:stretch/>
        </p:blipFill>
        <p:spPr>
          <a:xfrm>
            <a:off x="2357280" y="3381480"/>
            <a:ext cx="2143440" cy="1682640"/>
          </a:xfrm>
          <a:prstGeom prst="rect">
            <a:avLst/>
          </a:prstGeom>
          <a:ln w="0">
            <a:noFill/>
          </a:ln>
        </p:spPr>
      </p:pic>
      <p:sp>
        <p:nvSpPr>
          <p:cNvPr id="58" name="6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C253-2A1D-4E09-A0CC-648BEE9F23C4}" type="slidenum">
              <a:rPr b="1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2960" y="1372680"/>
            <a:ext cx="557208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400" spc="-1" strike="noStrike">
                <a:solidFill>
                  <a:srgbClr val="000000"/>
                </a:solidFill>
                <a:latin typeface="DK Thievery"/>
              </a:rPr>
              <a:t>A persecución,</a:t>
            </a:r>
            <a:br>
              <a:rPr sz="4400"/>
            </a:br>
            <a:r>
              <a:rPr b="1" lang="gl-ES" sz="4400" spc="-1" strike="noStrike">
                <a:solidFill>
                  <a:srgbClr val="000000"/>
                </a:solidFill>
                <a:latin typeface="DK Thievery"/>
              </a:rPr>
              <a:t>a vitoria, o regreso,</a:t>
            </a:r>
            <a:br>
              <a:rPr sz="4400"/>
            </a:br>
            <a:r>
              <a:rPr b="1" lang="gl-ES" sz="4400" spc="-1" strike="noStrike">
                <a:solidFill>
                  <a:srgbClr val="000000"/>
                </a:solidFill>
                <a:latin typeface="DK Thievery"/>
              </a:rPr>
              <a:t>a voda... a reparación da ofensa.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85520" y="5881680"/>
            <a:ext cx="5072040" cy="30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Trala solución correcta da proba, a vitoria no enfrontamento, o éxito na procura... o heroe obtén o seu premio: acada riquezas, casa co seu amor ou simplemente volve á casa. En calquera caso, as augas volven ao seu, o dano é reparado e os antagonistas reciben o seu castigo. É dicir, remata a historia. </a:t>
            </a:r>
            <a:endParaRPr b="0" lang="en-US" sz="2400" spc="-1" strike="noStrike">
              <a:solidFill>
                <a:srgbClr val="000000"/>
              </a:solidFill>
              <a:latin typeface="DK Thievery"/>
            </a:endParaRPr>
          </a:p>
        </p:txBody>
      </p:sp>
      <p:pic>
        <p:nvPicPr>
          <p:cNvPr id="61" name="Picture 8" descr="Isumbochi"/>
          <p:cNvPicPr/>
          <p:nvPr/>
        </p:nvPicPr>
        <p:blipFill>
          <a:blip r:embed="rId1"/>
          <a:stretch/>
        </p:blipFill>
        <p:spPr>
          <a:xfrm>
            <a:off x="2214720" y="3595680"/>
            <a:ext cx="2286000" cy="2092320"/>
          </a:xfrm>
          <a:prstGeom prst="rect">
            <a:avLst/>
          </a:prstGeom>
          <a:ln w="0">
            <a:noFill/>
          </a:ln>
        </p:spPr>
      </p:pic>
      <p:sp>
        <p:nvSpPr>
          <p:cNvPr id="62" name="5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B6F7-4DE7-4915-8ACA-11418EA532FA}" type="slidenum">
              <a:rPr b="1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9680" y="1309680"/>
            <a:ext cx="617220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000" spc="-1" strike="noStrike">
                <a:solidFill>
                  <a:srgbClr val="000000"/>
                </a:solidFill>
                <a:latin typeface="DK Thievery"/>
              </a:rPr>
              <a:t>Os relatos tradicionais repítense e viaxan</a:t>
            </a:r>
            <a:endParaRPr b="0" lang="en-US" sz="40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2600" y="5167440"/>
            <a:ext cx="564372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Unha característica do conto tradicional é que viaxa moito. Historias semellantes cóntanse ao longo do tempo en diversos lugares do mundo, pero cada comunidade tíngueos coa súa particular maneira de interpretar a vida. Forman parte do patrimonio inmaterial de cada pobo. Gardan a súa memoria e a súa alma e por todas partes tamén están en perigo de extinción.</a:t>
            </a:r>
            <a:endParaRPr b="0" lang="en-US" sz="2400" spc="-1" strike="noStrike">
              <a:solidFill>
                <a:srgbClr val="000000"/>
              </a:solidFill>
              <a:latin typeface="DK Thievery"/>
            </a:endParaRPr>
          </a:p>
          <a:p>
            <a:pPr marL="291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K Thievery"/>
            </a:endParaRPr>
          </a:p>
        </p:txBody>
      </p:sp>
      <p:pic>
        <p:nvPicPr>
          <p:cNvPr id="65" name="Picture 8" descr="ANd9GcSbXT0tVhyfsP-oBQpm3PA5kdVBftvqzMEpJlNaV19jFv1Pn81KcA"/>
          <p:cNvPicPr/>
          <p:nvPr/>
        </p:nvPicPr>
        <p:blipFill>
          <a:blip r:embed="rId1"/>
          <a:stretch/>
        </p:blipFill>
        <p:spPr>
          <a:xfrm>
            <a:off x="2679840" y="3095640"/>
            <a:ext cx="1606320" cy="1628640"/>
          </a:xfrm>
          <a:prstGeom prst="rect">
            <a:avLst/>
          </a:prstGeom>
          <a:ln w="0">
            <a:noFill/>
          </a:ln>
        </p:spPr>
      </p:pic>
      <p:sp>
        <p:nvSpPr>
          <p:cNvPr id="66" name="5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6AA1-9436-4CC3-8A11-B2AF2D4B1558}" type="slidenum">
              <a:rPr b="1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738360"/>
            <a:ext cx="617220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400" spc="-1" strike="noStrike">
                <a:solidFill>
                  <a:srgbClr val="000000"/>
                </a:solidFill>
                <a:latin typeface="DK Thievery"/>
              </a:rPr>
              <a:t>Un conto chino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3920" y="4452840"/>
            <a:ext cx="464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gl-ES" sz="3200" spc="-1" strike="noStrike">
                <a:solidFill>
                  <a:srgbClr val="000000"/>
                </a:solidFill>
                <a:latin typeface="Arial"/>
                <a:ea typeface="Arial"/>
              </a:rPr>
              <a:t>MOLA</a:t>
            </a: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gl-ES" sz="2400" spc="-1" strike="noStrike">
                <a:solidFill>
                  <a:srgbClr val="000000"/>
                </a:solidFill>
                <a:latin typeface="Arial"/>
                <a:ea typeface="Arial"/>
              </a:rPr>
              <a:t>Hai moito, moito tempo, o pobo da nacionalidade “iugu” atravesou o deserto de Gobi, a canda os seus camelos, vacas e ovellas, pasando por pantanos moi brañentos. Atravesando a estepa e camiñando, camiñando, chegou desde o distante Xinjiang ata o pé das montañas Qilian, en Gansu...</a:t>
            </a:r>
            <a:endParaRPr b="0" lang="en-US" sz="2400" spc="-1" strike="noStrike">
              <a:solidFill>
                <a:srgbClr val="000000"/>
              </a:solidFill>
              <a:latin typeface="DK Thievery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DK Thievery"/>
            </a:endParaRPr>
          </a:p>
        </p:txBody>
      </p:sp>
      <p:pic>
        <p:nvPicPr>
          <p:cNvPr id="69" name="Picture 16" descr="portada2"/>
          <p:cNvPicPr/>
          <p:nvPr/>
        </p:nvPicPr>
        <p:blipFill>
          <a:blip r:embed="rId1"/>
          <a:srcRect l="6299" t="2923" r="26969" b="31003"/>
          <a:stretch/>
        </p:blipFill>
        <p:spPr>
          <a:xfrm>
            <a:off x="2593800" y="2081160"/>
            <a:ext cx="1835280" cy="2379600"/>
          </a:xfrm>
          <a:prstGeom prst="rect">
            <a:avLst/>
          </a:prstGeom>
          <a:ln w="0">
            <a:noFill/>
          </a:ln>
        </p:spPr>
      </p:pic>
      <p:sp>
        <p:nvSpPr>
          <p:cNvPr id="70" name="5 Marcador de número de diapositiva"/>
          <p:cNvSpPr/>
          <p:nvPr/>
        </p:nvSpPr>
        <p:spPr>
          <a:xfrm>
            <a:off x="4915080" y="8956800"/>
            <a:ext cx="160020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87B7-54F9-44BC-B706-3711F859CDF5}" type="slidenum">
              <a:rPr b="1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400" y="1309680"/>
            <a:ext cx="617220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400" spc="-1" strike="noStrike">
                <a:solidFill>
                  <a:srgbClr val="000000"/>
                </a:solidFill>
                <a:latin typeface="DK Thievery"/>
              </a:rPr>
              <a:t>Un conto de Ecuador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28440" y="4881240"/>
            <a:ext cx="5143320" cy="31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LA HISTORIA DE CANTUÑA</a:t>
            </a: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  <a:p>
            <a:pPr marL="294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Pero un día, cuando regresaba a su casa, salió de entre las piedras un hombrecillo vestido de rojo con patillas y barba muy puntiaguda que le dijo:</a:t>
            </a:r>
            <a:endParaRPr b="0" lang="en-US" sz="2400" spc="-1" strike="noStrike">
              <a:solidFill>
                <a:srgbClr val="000000"/>
              </a:solidFill>
              <a:latin typeface="DK Thievery"/>
            </a:endParaRPr>
          </a:p>
          <a:p>
            <a:pPr marL="294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-Soy Satanás, quiero ayudarte. Yo puedo acabar el campanario de la iglesia  en tu lugar, antes de que caiga el sol. En pago, me darás tu alma. ¿Aceptas?</a:t>
            </a:r>
            <a:endParaRPr b="0" lang="en-US" sz="2400" spc="-1" strike="noStrike">
              <a:solidFill>
                <a:srgbClr val="000000"/>
              </a:solidFill>
              <a:latin typeface="DK Thievery"/>
            </a:endParaRPr>
          </a:p>
        </p:txBody>
      </p:sp>
      <p:pic>
        <p:nvPicPr>
          <p:cNvPr id="73" name="Picture 12" descr="ALABANZA-DEL-ECUADOR"/>
          <p:cNvPicPr/>
          <p:nvPr/>
        </p:nvPicPr>
        <p:blipFill>
          <a:blip r:embed="rId1"/>
          <a:stretch/>
        </p:blipFill>
        <p:spPr>
          <a:xfrm>
            <a:off x="2000160" y="2238480"/>
            <a:ext cx="3143520" cy="2444760"/>
          </a:xfrm>
          <a:prstGeom prst="rect">
            <a:avLst/>
          </a:prstGeom>
          <a:ln w="0">
            <a:noFill/>
          </a:ln>
        </p:spPr>
      </p:pic>
      <p:sp>
        <p:nvSpPr>
          <p:cNvPr id="74" name="5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FBC2-6EF9-42DB-973A-CD1FEF301BF6}" type="slidenum">
              <a:rPr b="1" lang="gl-ES" sz="1400" spc="-1" strike="noStrike">
                <a:solidFill>
                  <a:srgbClr val="6b6bc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1095480"/>
            <a:ext cx="61722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400" spc="-1" strike="noStrike">
                <a:solidFill>
                  <a:srgbClr val="000000"/>
                </a:solidFill>
                <a:latin typeface="DK Thievery"/>
                <a:ea typeface="Arial"/>
              </a:rPr>
              <a:t>Un conto de África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85880" y="4524120"/>
            <a:ext cx="5214960" cy="34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gl-E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gl-ES" sz="2800" spc="-1" strike="noStrike">
                <a:solidFill>
                  <a:srgbClr val="000000"/>
                </a:solidFill>
                <a:latin typeface="Arial"/>
                <a:ea typeface="Arial"/>
              </a:rPr>
              <a:t>POR QUE A XIRAFA NON DI NADA?</a:t>
            </a:r>
            <a:endParaRPr b="0" lang="en-US" sz="2800" spc="-1" strike="noStrike">
              <a:solidFill>
                <a:srgbClr val="000000"/>
              </a:solidFill>
              <a:latin typeface="DK Thievery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  <a:ea typeface="Arial"/>
              </a:rPr>
              <a:t>Deus, despois da Creación, preguntou aos animais se algún desexaba algo en especial e a xirafa dixo: </a:t>
            </a:r>
            <a:endParaRPr b="0" lang="en-US" sz="2000" spc="-1" strike="noStrike">
              <a:solidFill>
                <a:srgbClr val="000000"/>
              </a:solidFill>
              <a:latin typeface="DK Thievery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  <a:ea typeface="Arial"/>
              </a:rPr>
              <a:t>-A min habíame gustar ser sabia. </a:t>
            </a:r>
            <a:endParaRPr b="0" lang="en-US" sz="2000" spc="-1" strike="noStrike">
              <a:solidFill>
                <a:srgbClr val="000000"/>
              </a:solidFill>
              <a:latin typeface="DK Thievery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  <a:ea typeface="Arial"/>
              </a:rPr>
              <a:t>Daquela Deus ordenoulle que non falase máis, porque os que moito falan son uns trapalleiros e os sabios falan pouco e sempre escoitan. </a:t>
            </a:r>
            <a:endParaRPr b="0" lang="en-US" sz="2000" spc="-1" strike="noStrike">
              <a:solidFill>
                <a:srgbClr val="000000"/>
              </a:solidFill>
              <a:latin typeface="DK Thievery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  <a:ea typeface="Arial"/>
              </a:rPr>
              <a:t>Desde ese momento a xirafa olla para abaixo, olla e escoita, pero non dá fala. </a:t>
            </a:r>
            <a:endParaRPr b="0" lang="en-US" sz="2000" spc="-1" strike="noStrike">
              <a:solidFill>
                <a:srgbClr val="000000"/>
              </a:solidFill>
              <a:latin typeface="DK Thievery"/>
            </a:endParaRPr>
          </a:p>
        </p:txBody>
      </p:sp>
      <p:pic>
        <p:nvPicPr>
          <p:cNvPr id="77" name="Picture 8" descr="ANd9GcR5kCUxUjfn9WhyJLlypWEtbRbvkSIqWjNnxAEDV349Y4zyIo06"/>
          <p:cNvPicPr/>
          <p:nvPr/>
        </p:nvPicPr>
        <p:blipFill>
          <a:blip r:embed="rId1"/>
          <a:srcRect l="0" t="0" r="0" b="12663"/>
          <a:stretch/>
        </p:blipFill>
        <p:spPr>
          <a:xfrm>
            <a:off x="1973160" y="1881360"/>
            <a:ext cx="3098880" cy="2341440"/>
          </a:xfrm>
          <a:prstGeom prst="rect">
            <a:avLst/>
          </a:prstGeom>
          <a:ln w="0">
            <a:noFill/>
          </a:ln>
        </p:spPr>
      </p:pic>
      <p:sp>
        <p:nvSpPr>
          <p:cNvPr id="78" name="5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66B0-2464-41B2-9123-1744F69A9EED}" type="slidenum">
              <a:rPr b="0" lang="gl-E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0T14:31:14Z</dcterms:created>
  <dc:creator>USER</dc:creator>
  <dc:description/>
  <dc:language>en-US</dc:language>
  <cp:lastModifiedBy>Usuario</cp:lastModifiedBy>
  <dcterms:modified xsi:type="dcterms:W3CDTF">2013-04-15T09:44:41Z</dcterms:modified>
  <cp:revision>25</cp:revision>
  <dc:subject/>
  <dc:title>O relato popular</dc:title>
</cp:coreProperties>
</file>